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50AC-7CAD-4728-8E4A-1EFAE5AC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AB95-DAC1-4B0D-A174-1956D374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B93F-44E3-44B0-97E1-6C92359C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6A6A-A59D-4358-A0CA-80DBF43B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FE48-9C86-4747-A74C-21A6E1EF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B8BA-3D56-46C3-84D5-633E130C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CC5F-F4AF-4EBE-A5B6-52424913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0350-FF16-4B02-B9A7-F63B1FE0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1668-C3D1-45E9-AAC6-F1F36544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C269-A650-46C1-97E5-E6187902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70E5-A4BF-4C5B-B0D6-EC1BD10F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2D8F-C52A-44EF-90F6-D2E68A87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95B6-21A0-4533-B019-74B94649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2CBE-0BB4-4748-9746-272DF4BD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207C-4E29-496B-9A5F-B90F0D63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F0E5-9EF0-4634-8F14-A808B0B8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6A66-8484-47B4-996F-DEA8870A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6B9E-E0AA-4DAA-BF5C-9453CB46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86DC-5F19-40A2-8D6D-22CF2F10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1D67-CD7B-4C45-868E-5CE37E01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5FF4-2089-406A-830F-2CD6560A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AB45-040C-4F73-9DC2-0CB67CA3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F1E3-B00B-4336-8D9C-82B5B110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15F8-6EFA-404A-A9DE-30B528F3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778B-32EB-4AB7-8B2C-7FF49EE918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FE6F-3A44-4756-BE0A-CF1DCACDBE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534520" cy="26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6600"/>
                </a:solidFill>
                <a:latin typeface="Arial Black"/>
              </a:rPr>
              <a:t>¡El español es muy similar al inglés!</a:t>
            </a:r>
            <a:r>
              <a:rPr b="1" lang="en-US" sz="4800" spc="-1" strike="noStrike">
                <a:solidFill>
                  <a:srgbClr val="cc6600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72280" y="2486160"/>
            <a:ext cx="377172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¿Qué significa…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mús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 concier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crib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aventur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Un poco más difícil…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 c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cu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cla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or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fl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 grup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is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¿Comprendes?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 l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El palac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La medal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Los vegeta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Continu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0:56:04Z</dcterms:created>
  <dc:creator>Marjolein Mooney</dc:creator>
  <dc:description/>
  <dc:language>en-US</dc:language>
  <cp:lastModifiedBy>Marjolein Mooney</cp:lastModifiedBy>
  <dcterms:modified xsi:type="dcterms:W3CDTF">2009-09-09T01:13:50Z</dcterms:modified>
  <cp:revision>1</cp:revision>
  <dc:subject/>
  <dc:title>¡El español es muy similar al inglés! </dc:title>
</cp:coreProperties>
</file>